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384120" y="685440"/>
            <a:ext cx="60897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22240-E934-4BD5-8EDD-D2ABA241A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D7C46-4B24-43AD-9CB5-CB68C45419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84120" y="685800"/>
            <a:ext cx="608976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B731C6E-63BC-42D6-B5EB-71EABE71E81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0CA82D9-B335-4E61-BEA5-899FED846836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84120" y="685800"/>
            <a:ext cx="608976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880" y="136080"/>
            <a:ext cx="60199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8915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240" y="3117240"/>
            <a:ext cx="8915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6880" y="136080"/>
            <a:ext cx="60199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4350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6640" y="1126800"/>
            <a:ext cx="4350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117240"/>
            <a:ext cx="4350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96640" y="3117240"/>
            <a:ext cx="4350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880" y="136080"/>
            <a:ext cx="60199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287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2880" y="1126800"/>
            <a:ext cx="287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57520" y="1126800"/>
            <a:ext cx="287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240" y="3117240"/>
            <a:ext cx="287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2880" y="3117240"/>
            <a:ext cx="287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57520" y="3117240"/>
            <a:ext cx="287064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6880" y="136080"/>
            <a:ext cx="60199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240" y="112680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880" y="136080"/>
            <a:ext cx="60199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880" y="136080"/>
            <a:ext cx="60199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4350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96640" y="1126800"/>
            <a:ext cx="4350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880" y="136080"/>
            <a:ext cx="60199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6880" y="136080"/>
            <a:ext cx="601992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880" y="136080"/>
            <a:ext cx="60199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4350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6640" y="1126800"/>
            <a:ext cx="4350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240" y="3117240"/>
            <a:ext cx="4350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6880" y="136080"/>
            <a:ext cx="60199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4350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6640" y="1126800"/>
            <a:ext cx="4350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96640" y="3117240"/>
            <a:ext cx="4350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6880" y="136080"/>
            <a:ext cx="60199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126800"/>
            <a:ext cx="4350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6640" y="1126800"/>
            <a:ext cx="4350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240" y="3117240"/>
            <a:ext cx="8915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666880" y="136080"/>
            <a:ext cx="601992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12680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514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914400" y="2803680"/>
            <a:ext cx="7543800" cy="51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sic Product Inventory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2116080"/>
            <a:ext cx="7696080" cy="534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ey To "Managing"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657440" y="3844800"/>
            <a:ext cx="933480" cy="863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52680" y="3641760"/>
            <a:ext cx="26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895480" y="4022640"/>
            <a:ext cx="381024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an Friedman, CPA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895480" y="4403880"/>
            <a:ext cx="3886200" cy="3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iedman, Kannenberg &amp; Company, P.C.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52520" y="441360"/>
            <a:ext cx="3505320" cy="573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Gross Profit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560" y="1200240"/>
            <a:ext cx="8839080" cy="29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Sales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    $  320    100.0%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Cost goods sold  (   200)     62.5%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--------   ----------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Gross Profit</a:t>
            </a: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           $  120      37.5%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=====   ======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19360" y="212760"/>
            <a:ext cx="3809880" cy="79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entury Gothic"/>
              </a:rPr>
              <a:t>Inventory Turn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127160"/>
            <a:ext cx="9144000" cy="4021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Cost of goods sold        ($ 200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-----------------------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Avg Inventory cos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on hand                  ($ 125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entury Gothic"/>
              </a:rPr>
              <a:t>= Inventory turns of  </a:t>
            </a: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1.6 Turns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…</a:t>
            </a: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or it took you an average of 228 days (or 7.5 months)       to turn over the entire “Alan Friedman Score”        invento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629400" y="229680"/>
            <a:ext cx="1905120" cy="74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entury Gothic"/>
              </a:rPr>
              <a:t>GMROI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2280" y="1203120"/>
            <a:ext cx="8763120" cy="384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Gross Profit             ($ 120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--------------------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Avg Inventory cos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on hand              ($ 125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3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entury Gothic"/>
              </a:rPr>
              <a:t>= GMROI of</a:t>
            </a:r>
            <a:r>
              <a:rPr b="1" lang="en-US" sz="5200" spc="-1" strike="noStrike">
                <a:solidFill>
                  <a:srgbClr val="000066"/>
                </a:solidFill>
                <a:latin typeface="Century Gothic"/>
              </a:rPr>
              <a:t>  $0.96</a:t>
            </a:r>
            <a:endParaRPr b="0" lang="en-US" sz="5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    …</a:t>
            </a: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or, your earned $0.96 for every $1.00 you         invested in the “</a:t>
            </a:r>
            <a:r>
              <a:rPr b="0" lang="en-US" sz="2000" spc="-1" strike="noStrike">
                <a:solidFill>
                  <a:srgbClr val="000066"/>
                </a:solidFill>
                <a:latin typeface="Century Gothic"/>
              </a:rPr>
              <a:t>Alan Friedman Score</a:t>
            </a: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” invento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Rectangle 3"/>
          <p:cNvGraphicFramePr/>
          <p:nvPr/>
        </p:nvGraphicFramePr>
        <p:xfrm>
          <a:off x="0" y="800280"/>
          <a:ext cx="9144000" cy="434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00280"/>
                    <a:ext cx="9144000" cy="43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876920" y="326880"/>
            <a:ext cx="3047760" cy="6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Gross Profit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1920" y="1050840"/>
            <a:ext cx="8915400" cy="2975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Sales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     $  320    100.0%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Cost goods sold   (   200)     62.5%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              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---------   ----------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Gross Profit</a:t>
            </a: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            $  120      37.5%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3264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 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=====   ======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48320" y="365040"/>
            <a:ext cx="365760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Century Gothic"/>
              </a:rPr>
              <a:t>Inventory Turns</a:t>
            </a:r>
            <a:endParaRPr b="1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-360" y="974520"/>
            <a:ext cx="8991720" cy="41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Cost of goods sold        ($ 200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-----------------------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Avg Inventory cos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on hand                   ($  75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= Inventory turns of   </a:t>
            </a:r>
            <a:r>
              <a:rPr b="1" lang="en-US" sz="4400" spc="-1" strike="noStrike">
                <a:solidFill>
                  <a:srgbClr val="000066"/>
                </a:solidFill>
                <a:latin typeface="Century Gothic"/>
              </a:rPr>
              <a:t>2.7 Turns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or it took you an average of 137 days                (or 4.5 months) to turn over the entire            “Alan Friedman Score” invento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05360" y="365040"/>
            <a:ext cx="1981080" cy="6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GMROI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203480"/>
            <a:ext cx="8763120" cy="3944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Gross Profit             ($ 120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--------------------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Avg Inventory cos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on hand              ($  75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Century Gothic"/>
              </a:rPr>
              <a:t>= GMROI of </a:t>
            </a:r>
            <a:r>
              <a:rPr b="1" lang="en-US" sz="5400" spc="-1" strike="noStrike">
                <a:solidFill>
                  <a:srgbClr val="000066"/>
                </a:solidFill>
                <a:latin typeface="Century Gothic"/>
              </a:rPr>
              <a:t> $1.60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    …</a:t>
            </a:r>
            <a:r>
              <a:rPr b="0" lang="en-US" sz="2400" spc="-1" strike="noStrike">
                <a:solidFill>
                  <a:srgbClr val="000066"/>
                </a:solidFill>
                <a:latin typeface="Century Gothic"/>
              </a:rPr>
              <a:t>or, your earned $1.60 for every $1.00 you         invested in the “Alan Friedman Score” inventor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43040" y="365040"/>
            <a:ext cx="47242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Century Gothic"/>
              </a:rPr>
              <a:t>Alan’s Inv Mgt Goals: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10484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50"/>
              </a:spcBef>
              <a:buClr>
                <a:srgbClr val="3399ff"/>
              </a:buClr>
              <a:buSzPct val="13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Century Gothic"/>
              </a:rPr>
              <a:t>Gross profit = “it depends” on your inventory turns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950"/>
              </a:spcBef>
              <a:buClr>
                <a:srgbClr val="3399ff"/>
              </a:buClr>
              <a:buSzPct val="13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66"/>
                </a:solidFill>
                <a:latin typeface="Century Gothic"/>
              </a:rPr>
              <a:t>Inv turns = “it depends” on your gross profit percent</a:t>
            </a:r>
            <a:endParaRPr b="0" lang="en-US" sz="3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Most retailing experts (across all industries) suggest GMROI targets of…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</a:t>
            </a:r>
            <a:r>
              <a:rPr b="1" lang="en-US" sz="5800" spc="-1" strike="noStrike">
                <a:solidFill>
                  <a:srgbClr val="000066"/>
                </a:solidFill>
                <a:latin typeface="Century Gothic"/>
              </a:rPr>
              <a:t>$1.50 or better</a:t>
            </a:r>
            <a:endParaRPr b="0" lang="en-US" sz="5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ipe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15800"/>
            <a:ext cx="9144000" cy="280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66"/>
                </a:solidFill>
                <a:latin typeface="Century Gothic"/>
              </a:rPr>
              <a:t>The Secret Weapon:</a:t>
            </a:r>
            <a:br>
              <a:rPr sz="4600"/>
            </a:br>
            <a:r>
              <a:rPr b="0" lang="en-US" sz="4600" spc="-1" strike="noStrike">
                <a:solidFill>
                  <a:srgbClr val="000066"/>
                </a:solidFill>
                <a:latin typeface="Century Gothic"/>
              </a:rPr>
              <a:t>a </a:t>
            </a:r>
            <a:r>
              <a:rPr b="0" lang="en-US" sz="5000" spc="-1" strike="noStrike">
                <a:solidFill>
                  <a:srgbClr val="000066"/>
                </a:solidFill>
                <a:latin typeface="Century Gothic"/>
              </a:rPr>
              <a:t>“</a:t>
            </a:r>
            <a:r>
              <a:rPr b="1" lang="en-US" sz="5000" spc="-1" strike="noStrike">
                <a:solidFill>
                  <a:srgbClr val="000066"/>
                </a:solidFill>
                <a:latin typeface="Century Gothic"/>
              </a:rPr>
              <a:t>1-Page Solution</a:t>
            </a:r>
            <a:r>
              <a:rPr b="0" lang="en-US" sz="5000" spc="-1" strike="noStrike">
                <a:solidFill>
                  <a:srgbClr val="000066"/>
                </a:solidFill>
                <a:latin typeface="Century Gothic"/>
              </a:rPr>
              <a:t>”</a:t>
            </a:r>
            <a:br>
              <a:rPr sz="5000"/>
            </a:br>
            <a:r>
              <a:rPr b="0" lang="en-US" sz="4600" spc="-1" strike="noStrike">
                <a:solidFill>
                  <a:srgbClr val="000066"/>
                </a:solidFill>
                <a:latin typeface="Century Gothic"/>
              </a:rPr>
              <a:t>to Managing Your Inventory</a:t>
            </a:r>
            <a:br>
              <a:rPr sz="4600"/>
            </a:br>
            <a:endParaRPr b="1" lang="en-US" sz="4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Rectangle 3"/>
          <p:cNvGraphicFramePr/>
          <p:nvPr/>
        </p:nvGraphicFramePr>
        <p:xfrm>
          <a:off x="0" y="0"/>
          <a:ext cx="9144000" cy="514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51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1203120"/>
            <a:ext cx="807732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84760" indent="-284760">
              <a:spcBef>
                <a:spcPts val="130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Century Gothic"/>
              </a:rPr>
              <a:t>Gross Profit</a:t>
            </a:r>
            <a:endParaRPr b="0" lang="en-US" sz="5200" spc="-1" strike="noStrike">
              <a:solidFill>
                <a:srgbClr val="000000"/>
              </a:solidFill>
              <a:latin typeface="Century Gothic"/>
            </a:endParaRPr>
          </a:p>
          <a:p>
            <a:pPr marL="284760" indent="-284760">
              <a:spcBef>
                <a:spcPts val="130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Century Gothic"/>
              </a:rPr>
              <a:t>Inventory Turns</a:t>
            </a:r>
            <a:endParaRPr b="0" lang="en-US" sz="5200" spc="-1" strike="noStrike">
              <a:solidFill>
                <a:srgbClr val="000000"/>
              </a:solidFill>
              <a:latin typeface="Century Gothic"/>
            </a:endParaRPr>
          </a:p>
          <a:p>
            <a:pPr marL="284760" indent="-284760">
              <a:spcBef>
                <a:spcPts val="130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5200" spc="-1" strike="noStrike">
                <a:solidFill>
                  <a:srgbClr val="000066"/>
                </a:solidFill>
                <a:latin typeface="Century Gothic"/>
              </a:rPr>
              <a:t>Gross Margin Return on Investment (GMROI)</a:t>
            </a:r>
            <a:endParaRPr b="0" lang="en-US" sz="5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971440" y="152280"/>
            <a:ext cx="5715000" cy="8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Century Gothic"/>
              </a:rPr>
              <a:t>You can effectively manage your entire inventory by using 3 simple calculations:</a:t>
            </a:r>
            <a:endParaRPr b="1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2"/>
          <p:cNvSpPr/>
          <p:nvPr/>
        </p:nvSpPr>
        <p:spPr>
          <a:xfrm>
            <a:off x="228600" y="974880"/>
            <a:ext cx="8763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no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561"/>
              </a:spcAft>
              <a:tabLst>
                <a:tab algn="l" pos="0"/>
                <a:tab algn="l" pos="814320"/>
                <a:tab algn="l" pos="2120760"/>
                <a:tab algn="l" pos="3429000"/>
                <a:tab algn="l" pos="4734000"/>
                <a:tab algn="l" pos="6040440"/>
                <a:tab algn="l" pos="7346880"/>
                <a:tab algn="l" pos="8653320"/>
                <a:tab algn="l" pos="996156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15376b"/>
                </a:solidFill>
                <a:latin typeface="CenturyGothic"/>
              </a:rPr>
              <a:t>Here are three takeaways from </a:t>
            </a:r>
            <a:r>
              <a:rPr b="1" lang="en-US" sz="1500" spc="-1" strike="noStrike">
                <a:solidFill>
                  <a:srgbClr val="15376b"/>
                </a:solidFill>
                <a:latin typeface="CenturyGothic"/>
              </a:rPr>
              <a:t>“How To Manage Your Music Product Inventory”</a:t>
            </a:r>
            <a:r>
              <a:rPr b="0" lang="en-US" sz="1500" spc="-1" strike="noStrike">
                <a:solidFill>
                  <a:srgbClr val="15376b"/>
                </a:solidFill>
                <a:latin typeface="CenturyGothic"/>
              </a:rPr>
              <a:t> presented by </a:t>
            </a:r>
            <a:r>
              <a:rPr b="1" lang="en-US" sz="1500" spc="-1" strike="noStrike">
                <a:solidFill>
                  <a:srgbClr val="15376b"/>
                </a:solidFill>
                <a:latin typeface="CenturyGothic"/>
              </a:rPr>
              <a:t>Alan Friedman</a:t>
            </a:r>
            <a:r>
              <a:rPr b="0" lang="en-US" sz="1500" spc="-1" strike="noStrike">
                <a:solidFill>
                  <a:srgbClr val="15376b"/>
                </a:solidFill>
                <a:latin typeface="CenturyGothic"/>
              </a:rPr>
              <a:t>.  Bring these ideas to back to your business and see what results you generate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4"/>
              </a:spcBef>
              <a:spcAft>
                <a:spcPts val="224"/>
              </a:spcAft>
              <a:tabLst>
                <a:tab algn="l" pos="0"/>
                <a:tab algn="l" pos="814320"/>
                <a:tab algn="l" pos="2120760"/>
                <a:tab algn="l" pos="3429000"/>
                <a:tab algn="l" pos="4734000"/>
                <a:tab algn="l" pos="6040440"/>
                <a:tab algn="l" pos="7346880"/>
                <a:tab algn="l" pos="8653320"/>
                <a:tab algn="l" pos="9961560"/>
                <a:tab algn="l" pos="10058400"/>
                <a:tab algn="l" pos="105156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901"/>
              </a:spcAft>
              <a:tabLst>
                <a:tab algn="l" pos="0"/>
                <a:tab algn="l" pos="814320"/>
                <a:tab algn="l" pos="2120760"/>
                <a:tab algn="l" pos="3429000"/>
                <a:tab algn="l" pos="4734000"/>
                <a:tab algn="l" pos="6040440"/>
                <a:tab algn="l" pos="7346880"/>
                <a:tab algn="l" pos="8653320"/>
                <a:tab algn="l" pos="99615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5376b"/>
                </a:solidFill>
                <a:latin typeface="CenturyGothic"/>
              </a:rPr>
              <a:t>Takeaway 1:</a:t>
            </a:r>
            <a:r>
              <a:rPr b="0" lang="en-US" sz="2400" spc="-1" strike="noStrike">
                <a:solidFill>
                  <a:srgbClr val="15376b"/>
                </a:solidFill>
                <a:latin typeface="CenturyGothic"/>
              </a:rPr>
              <a:t> </a:t>
            </a:r>
            <a:r>
              <a:rPr b="1" lang="en-US" sz="2400" spc="-1" strike="noStrike">
                <a:solidFill>
                  <a:srgbClr val="15376b"/>
                </a:solidFill>
                <a:latin typeface="CenturyGothic"/>
              </a:rPr>
              <a:t>Effectively manage your inventory by under- standing these three (3) key calculations: (1) Gross Profit, (2) Inventory Turns, and (3) GMROI</a:t>
            </a:r>
            <a:r>
              <a:rPr b="0" lang="en-US" sz="2400" spc="-1" strike="noStrike">
                <a:solidFill>
                  <a:srgbClr val="15376b"/>
                </a:solidFill>
                <a:latin typeface="Century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901"/>
              </a:spcAft>
              <a:tabLst>
                <a:tab algn="l" pos="0"/>
                <a:tab algn="l" pos="814320"/>
                <a:tab algn="l" pos="2120760"/>
                <a:tab algn="l" pos="3429000"/>
                <a:tab algn="l" pos="4734000"/>
                <a:tab algn="l" pos="6040440"/>
                <a:tab algn="l" pos="7346880"/>
                <a:tab algn="l" pos="8653320"/>
                <a:tab algn="l" pos="99615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5376b"/>
                </a:solidFill>
                <a:latin typeface="CenturyGothic"/>
              </a:rPr>
              <a:t>Takeaway 2:</a:t>
            </a:r>
            <a:r>
              <a:rPr b="0" lang="en-US" sz="2400" spc="-1" strike="noStrike">
                <a:solidFill>
                  <a:srgbClr val="15376b"/>
                </a:solidFill>
                <a:latin typeface="CenturyGothic"/>
              </a:rPr>
              <a:t>  </a:t>
            </a:r>
            <a:r>
              <a:rPr b="1" lang="en-US" sz="2400" spc="-1" strike="noStrike">
                <a:solidFill>
                  <a:srgbClr val="15376b"/>
                </a:solidFill>
                <a:latin typeface="CenturyGothic"/>
              </a:rPr>
              <a:t>Generate the “1-page” GMROI Report solution at the end of every month and act upo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901"/>
              </a:spcAft>
              <a:tabLst>
                <a:tab algn="l" pos="0"/>
                <a:tab algn="l" pos="814320"/>
                <a:tab algn="l" pos="2120760"/>
                <a:tab algn="l" pos="3429000"/>
                <a:tab algn="l" pos="4734000"/>
                <a:tab algn="l" pos="6040440"/>
                <a:tab algn="l" pos="7346880"/>
                <a:tab algn="l" pos="8653320"/>
                <a:tab algn="l" pos="99615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15376b"/>
                </a:solidFill>
                <a:latin typeface="CenturyGothic"/>
              </a:rPr>
              <a:t>Takeaway 3:</a:t>
            </a:r>
            <a:r>
              <a:rPr b="0" lang="en-US" sz="2400" spc="-1" strike="noStrike">
                <a:solidFill>
                  <a:srgbClr val="15376b"/>
                </a:solidFill>
                <a:latin typeface="CenturyGothic"/>
              </a:rPr>
              <a:t>  </a:t>
            </a:r>
            <a:r>
              <a:rPr b="1" lang="en-US" sz="2400" spc="-1" strike="noStrike">
                <a:solidFill>
                  <a:srgbClr val="15376b"/>
                </a:solidFill>
                <a:latin typeface="CenturyGothic"/>
              </a:rPr>
              <a:t>Download the GMROI Excel Spreadsheet from our website at: </a:t>
            </a:r>
            <a:r>
              <a:rPr b="1" lang="en-US" sz="2400" spc="-1" strike="noStrike" u="sng">
                <a:solidFill>
                  <a:srgbClr val="15376b"/>
                </a:solidFill>
                <a:uFillTx/>
                <a:latin typeface="CenturyGothic"/>
              </a:rPr>
              <a:t>www.fkco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3103560" y="385920"/>
            <a:ext cx="5029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op Three Takea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971640"/>
            <a:ext cx="90676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3226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26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514600" y="368280"/>
            <a:ext cx="64008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Free” Consulting Meetin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032280"/>
            <a:ext cx="83818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ahoma"/>
              </a:rPr>
              <a:t>Contact Jen </a:t>
            </a:r>
            <a:r>
              <a:rPr b="0" lang="en-US" sz="3200" spc="-1" strike="noStrike">
                <a:solidFill>
                  <a:srgbClr val="790015"/>
                </a:solidFill>
                <a:latin typeface="Tahoma"/>
              </a:rPr>
              <a:t>outside the Idea Center ent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ahoma"/>
              </a:rPr>
              <a:t>after this session to set up a meet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86000" y="1127160"/>
            <a:ext cx="4724280" cy="1797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4556160"/>
            <a:ext cx="91440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Comic Sans MS"/>
              </a:rPr>
              <a:t>Catch</a:t>
            </a:r>
            <a:r>
              <a:rPr b="1" lang="en-US" sz="3700" spc="-1" strike="noStrike">
                <a:solidFill>
                  <a:srgbClr val="ffff00"/>
                </a:solidFill>
                <a:latin typeface="Comic Sans MS"/>
              </a:rPr>
              <a:t> “</a:t>
            </a:r>
            <a:r>
              <a:rPr b="1" lang="en-US" sz="3300" spc="-1" strike="noStrike">
                <a:solidFill>
                  <a:srgbClr val="ffff00"/>
                </a:solidFill>
                <a:latin typeface="Comic Sans MS"/>
              </a:rPr>
              <a:t>Printz”</a:t>
            </a:r>
            <a:r>
              <a:rPr b="1" lang="en-US" sz="2500" spc="-1" strike="noStrike">
                <a:solidFill>
                  <a:srgbClr val="ffff00"/>
                </a:solidFill>
                <a:latin typeface="Comic Sans MS"/>
              </a:rPr>
              <a:t> Saturday night at the Hilton Lobb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81480" y="0"/>
            <a:ext cx="39625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4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100" spc="-1" strike="noStrike">
                <a:solidFill>
                  <a:srgbClr val="ffff00"/>
                </a:solidFill>
                <a:latin typeface="Comic Sans MS"/>
              </a:rPr>
              <a:t>“</a:t>
            </a:r>
            <a:r>
              <a:rPr b="1" lang="en-US" sz="5500" spc="-1" strike="noStrike">
                <a:solidFill>
                  <a:srgbClr val="ffff00"/>
                </a:solidFill>
                <a:latin typeface="Comic Sans MS"/>
              </a:rPr>
              <a:t>Enjoy the Show!”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181480" y="441000"/>
            <a:ext cx="3657600" cy="59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Gross Profit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-360" y="120348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Sales                   $ 1,000,000    100%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Cost goods sold (   650,000)     65%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     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---------------    -------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Gross Profit</a:t>
            </a: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	</a:t>
            </a: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         $   350,000      35%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                  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=========  ====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14800" y="364680"/>
            <a:ext cx="419112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Inventory Turns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050840"/>
            <a:ext cx="8915400" cy="4097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Cost of goods sold      ($ 600,000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------------------------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Avg Inventory cos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on hand                ($ 300,000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Century Gothic"/>
              </a:rPr>
              <a:t>= </a:t>
            </a:r>
            <a:r>
              <a:rPr b="1" lang="en-US" sz="3200" spc="-1" strike="noStrike">
                <a:solidFill>
                  <a:srgbClr val="000066"/>
                </a:solidFill>
                <a:latin typeface="Century Gothic"/>
              </a:rPr>
              <a:t>Inventory turned </a:t>
            </a:r>
            <a:r>
              <a:rPr b="1" lang="en-US" sz="4400" spc="-1" strike="noStrike">
                <a:solidFill>
                  <a:srgbClr val="000066"/>
                </a:solidFill>
                <a:latin typeface="Century Gothic"/>
              </a:rPr>
              <a:t>“2 Times”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 </a:t>
            </a:r>
            <a:r>
              <a:rPr b="0" lang="en-US" sz="2900" spc="-1" strike="noStrike">
                <a:solidFill>
                  <a:srgbClr val="000066"/>
                </a:solidFill>
                <a:latin typeface="Century Gothic"/>
              </a:rPr>
              <a:t>…</a:t>
            </a:r>
            <a:r>
              <a:rPr b="0" lang="en-US" sz="2900" spc="-1" strike="noStrike">
                <a:solidFill>
                  <a:srgbClr val="000066"/>
                </a:solidFill>
                <a:latin typeface="Century Gothic"/>
              </a:rPr>
              <a:t>or, it took you 6 months to turn over             your entire inventory (in $$$)</a:t>
            </a:r>
            <a:endParaRPr b="0" lang="en-US" sz="2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0" y="289080"/>
            <a:ext cx="220968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GMROI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029960"/>
            <a:ext cx="8762760" cy="38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Gross Profit                ($ 400,000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--------------------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Avg Inventory cos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>
              <a:lnSpc>
                <a:spcPct val="4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       </a:t>
            </a: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on hand                 ($ 300,000)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>
              <a:spcBef>
                <a:spcPts val="1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Century Gothic"/>
              </a:rPr>
              <a:t>= GMROI of</a:t>
            </a:r>
            <a:r>
              <a:rPr b="1" lang="en-US" sz="5800" spc="-1" strike="noStrike">
                <a:solidFill>
                  <a:srgbClr val="000066"/>
                </a:solidFill>
                <a:latin typeface="Century Gothic"/>
              </a:rPr>
              <a:t>  $1.33</a:t>
            </a:r>
            <a:endParaRPr b="0" lang="en-US" sz="5800" spc="-1" strike="noStrike">
              <a:solidFill>
                <a:srgbClr val="000000"/>
              </a:solidFill>
              <a:latin typeface="Century Gothic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…</a:t>
            </a: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or, your earned $1.33 for every $1.00              you invested in inventor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00400" y="288720"/>
            <a:ext cx="5410080" cy="74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entury Gothic"/>
              </a:rPr>
              <a:t>GMROI Goal:</a:t>
            </a:r>
            <a:endParaRPr b="1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087200"/>
            <a:ext cx="7925040" cy="371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Century Gothic"/>
              </a:rPr>
              <a:t>Most retailing experts (across all industries) suggest a GMROI target of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66"/>
                </a:solidFill>
                <a:latin typeface="Century Gothic"/>
              </a:rPr>
              <a:t>$1.50 or better</a:t>
            </a:r>
            <a:r>
              <a:rPr b="0" lang="en-US" sz="6000" spc="-1" strike="noStrike">
                <a:solidFill>
                  <a:srgbClr val="000066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71800" y="1203480"/>
            <a:ext cx="3200400" cy="3827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95480" y="28908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Let’s test our new calculation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1127160"/>
            <a:ext cx="9144000" cy="390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06360" indent="-306360">
              <a:spcBef>
                <a:spcPts val="774"/>
              </a:spcBef>
              <a:buClr>
                <a:srgbClr val="3399ff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entury Gothic"/>
              </a:rPr>
              <a:t>In January of last year, you bought four (4) copies of “The Complete Score of Alan Friedman”; the book has a list price of approximately </a:t>
            </a:r>
            <a:r>
              <a:rPr b="0" lang="en-US" sz="3100" spc="-1" strike="noStrike">
                <a:solidFill>
                  <a:srgbClr val="0000ff"/>
                </a:solidFill>
                <a:latin typeface="Century Gothic"/>
              </a:rPr>
              <a:t>$80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marL="306360" indent="-306360">
              <a:spcBef>
                <a:spcPts val="774"/>
              </a:spcBef>
              <a:buClr>
                <a:srgbClr val="3399ff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entury Gothic"/>
              </a:rPr>
              <a:t>Your cost was </a:t>
            </a:r>
            <a:r>
              <a:rPr b="0" lang="en-US" sz="3100" spc="-1" strike="noStrike">
                <a:solidFill>
                  <a:srgbClr val="0000ff"/>
                </a:solidFill>
                <a:latin typeface="Century Gothic"/>
              </a:rPr>
              <a:t>$50</a:t>
            </a:r>
            <a:r>
              <a:rPr b="0" lang="en-US" sz="3100" spc="-1" strike="noStrike">
                <a:solidFill>
                  <a:srgbClr val="000066"/>
                </a:solidFill>
                <a:latin typeface="Century Gothic"/>
              </a:rPr>
              <a:t>, including freight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  <a:p>
            <a:pPr marL="306360" indent="-306360">
              <a:spcBef>
                <a:spcPts val="774"/>
              </a:spcBef>
              <a:buClr>
                <a:srgbClr val="3399ff"/>
              </a:buClr>
              <a:buFont typeface="Wingdings" charset="2"/>
              <a:buChar char="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Century Gothic"/>
              </a:rPr>
              <a:t>You sold all 4 copies by the end of the year, as follows…</a:t>
            </a:r>
            <a:endParaRPr b="0" lang="en-US" sz="3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"/>
          <p:cNvSpPr/>
          <p:nvPr/>
        </p:nvSpPr>
        <p:spPr>
          <a:xfrm>
            <a:off x="2895480" y="28908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Century Gothic"/>
              </a:rPr>
              <a:t>Let’s test our new calculation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Rectangle 3"/>
          <p:cNvGraphicFramePr/>
          <p:nvPr/>
        </p:nvGraphicFramePr>
        <p:xfrm>
          <a:off x="0" y="858960"/>
          <a:ext cx="9144000" cy="428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Rectangle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58960"/>
                    <a:ext cx="914400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7:16:40Z</dcterms:created>
  <dc:creator>Stuart Robertson</dc:creator>
  <dc:description/>
  <dc:language>en-US</dc:language>
  <cp:lastModifiedBy>Staff</cp:lastModifiedBy>
  <dcterms:modified xsi:type="dcterms:W3CDTF">2010-12-01T15:32:02Z</dcterms:modified>
  <cp:revision>67</cp:revision>
  <dc:subject/>
  <dc:title>PowerPoint Presentation</dc:title>
</cp:coreProperties>
</file>