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jpeg" ContentType="image/jpeg"/>
  <Override PartName="/ppt/media/image7.wmf" ContentType="image/x-wmf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51482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384120" y="685440"/>
            <a:ext cx="608976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Grande"/>
              </a:rPr>
              <a:t>Click to move the slide</a:t>
            </a: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0957-1F3E-46DC-9BC1-BD0AC13BA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3FD63-6E65-4FD5-8DB7-86A2D5BAED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384120" y="685800"/>
            <a:ext cx="608976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349F544-76A5-4943-8CC6-C3BA40D2A1EB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18492DE-DB3D-43BE-BB0E-1A66D8F0DE43}" type="slidenum">
              <a:rPr b="0" lang="en-US" sz="1200" spc="-1" strike="noStrike">
                <a:solidFill>
                  <a:srgbClr val="000000"/>
                </a:solidFill>
                <a:latin typeface="Lucida Gran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84120" y="685800"/>
            <a:ext cx="608976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6880" y="365040"/>
            <a:ext cx="6018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240" y="1058760"/>
            <a:ext cx="858060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28240" y="3195000"/>
            <a:ext cx="858060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666880" y="365040"/>
            <a:ext cx="6018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058760"/>
            <a:ext cx="418716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25280" y="1058760"/>
            <a:ext cx="418716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240" y="3195000"/>
            <a:ext cx="418716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25280" y="3195000"/>
            <a:ext cx="418716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6880" y="365040"/>
            <a:ext cx="6018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240" y="1058760"/>
            <a:ext cx="276264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29480" y="1058760"/>
            <a:ext cx="276264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30720" y="1058760"/>
            <a:ext cx="276264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228240" y="3195000"/>
            <a:ext cx="276264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29480" y="3195000"/>
            <a:ext cx="276264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30720" y="3195000"/>
            <a:ext cx="276264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6880" y="365040"/>
            <a:ext cx="6018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228240" y="1058760"/>
            <a:ext cx="8580600" cy="40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6880" y="365040"/>
            <a:ext cx="6018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228240" y="1058760"/>
            <a:ext cx="8580600" cy="4089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6880" y="365040"/>
            <a:ext cx="6018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240" y="1058760"/>
            <a:ext cx="4187160" cy="4089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25280" y="1058760"/>
            <a:ext cx="4187160" cy="4089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6880" y="365040"/>
            <a:ext cx="6018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2666880" y="365040"/>
            <a:ext cx="6018480" cy="32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6880" y="365040"/>
            <a:ext cx="6018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240" y="1058760"/>
            <a:ext cx="418716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25280" y="1058760"/>
            <a:ext cx="4187160" cy="4089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228240" y="3195000"/>
            <a:ext cx="418716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666880" y="365040"/>
            <a:ext cx="6018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28240" y="1058760"/>
            <a:ext cx="4187160" cy="4089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5280" y="1058760"/>
            <a:ext cx="418716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25280" y="3195000"/>
            <a:ext cx="418716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6880" y="365040"/>
            <a:ext cx="6018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058760"/>
            <a:ext cx="418716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5280" y="1058760"/>
            <a:ext cx="418716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240" y="3195000"/>
            <a:ext cx="8580600" cy="195048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228240" y="1058760"/>
            <a:ext cx="8580600" cy="4089600"/>
          </a:xfrm>
          <a:prstGeom prst="rect">
            <a:avLst/>
          </a:prstGeom>
          <a:noFill/>
          <a:ln w="0">
            <a:noFill/>
          </a:ln>
        </p:spPr>
        <p:txBody>
          <a:bodyPr lIns="130680" rIns="130680" tIns="65160" bIns="65160" anchor="t">
            <a:normAutofit fontScale="88000"/>
          </a:bodyPr>
          <a:p>
            <a:pPr marL="301680" indent="0">
              <a:spcBef>
                <a:spcPts val="11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lvl="1" marL="301680" indent="-301680">
              <a:spcBef>
                <a:spcPts val="11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lvl="2" marL="301680" indent="-301680">
              <a:spcBef>
                <a:spcPts val="11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lvl="3" marL="301680" indent="-301680">
              <a:spcBef>
                <a:spcPts val="11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lvl="4" marL="301680" indent="-301680">
              <a:spcBef>
                <a:spcPts val="11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lvl="5" marL="301680" indent="-301680">
              <a:spcBef>
                <a:spcPts val="11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  <a:p>
            <a:pPr lvl="6" marL="301680" indent="-301680">
              <a:spcBef>
                <a:spcPts val="11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2666880" y="365040"/>
            <a:ext cx="601848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Lucida Grande"/>
              </a:rPr>
              <a:t>Click to edit the title text format</a:t>
            </a:r>
            <a:endParaRPr b="0" lang="en-US" sz="31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5148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838080" y="280368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usic Product Inventory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1965240"/>
            <a:ext cx="7696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Key To "Buying"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295280" y="3870360"/>
            <a:ext cx="933480" cy="844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352680" y="3641760"/>
            <a:ext cx="2667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590920" y="4022640"/>
            <a:ext cx="4038480" cy="3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an Friedman, CPA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90920" y="4405320"/>
            <a:ext cx="4038480" cy="2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riedman, Kannenberg &amp; Company, P.C.</a:t>
            </a:r>
            <a:endParaRPr b="0" lang="en-US" sz="16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81280" y="212400"/>
            <a:ext cx="5562720" cy="318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Matisse ITC"/>
              </a:rPr>
              <a:t>Alan’s </a:t>
            </a:r>
            <a:br>
              <a:rPr sz="5000"/>
            </a:br>
            <a:r>
              <a:rPr b="1" lang="en-US" sz="5000" spc="-1" strike="noStrike">
                <a:solidFill>
                  <a:srgbClr val="000066"/>
                </a:solidFill>
                <a:latin typeface="Matisse ITC"/>
              </a:rPr>
              <a:t>“</a:t>
            </a:r>
            <a:r>
              <a:rPr b="1" lang="en-US" sz="5000" spc="-1" strike="noStrike">
                <a:solidFill>
                  <a:srgbClr val="ff0000"/>
                </a:solidFill>
                <a:latin typeface="Matisse ITC"/>
              </a:rPr>
              <a:t>Rule of Thumb</a:t>
            </a:r>
            <a:r>
              <a:rPr b="1" lang="en-US" sz="5000" spc="-1" strike="noStrike">
                <a:solidFill>
                  <a:srgbClr val="000066"/>
                </a:solidFill>
                <a:latin typeface="Matisse ITC"/>
              </a:rPr>
              <a:t>”</a:t>
            </a:r>
            <a:br>
              <a:rPr sz="5000"/>
            </a:br>
            <a:r>
              <a:rPr b="1" lang="en-US" sz="5000" spc="-1" strike="noStrike">
                <a:solidFill>
                  <a:srgbClr val="000000"/>
                </a:solidFill>
                <a:latin typeface="Matisse ITC"/>
              </a:rPr>
              <a:t>for buying inventory</a:t>
            </a:r>
            <a:endParaRPr b="0" lang="en-US" sz="50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72" name="Rectangle 1" descr=""/>
          <p:cNvPicPr/>
          <p:nvPr/>
        </p:nvPicPr>
        <p:blipFill>
          <a:blip r:embed="rId1"/>
          <a:stretch/>
        </p:blipFill>
        <p:spPr>
          <a:xfrm>
            <a:off x="0" y="0"/>
            <a:ext cx="3581280" cy="5148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09320" y="365040"/>
            <a:ext cx="6629400" cy="62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Alan’s “Rule of Thumb”</a:t>
            </a:r>
            <a:endParaRPr b="0" lang="en-US" sz="4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320" y="1050840"/>
            <a:ext cx="8534160" cy="371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Century Gothic"/>
              </a:rPr>
              <a:t>“ 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Buy the product 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Century Gothic"/>
              </a:rPr>
              <a:t>ONLY IF 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you know you can sell it in “</a:t>
            </a:r>
            <a:r>
              <a:rPr b="0" lang="en-US" sz="4300" spc="-1" strike="noStrike">
                <a:solidFill>
                  <a:srgbClr val="ff0000"/>
                </a:solidFill>
                <a:latin typeface="Century Gothic"/>
              </a:rPr>
              <a:t>X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” days or less, where “</a:t>
            </a:r>
            <a:r>
              <a:rPr b="0" lang="en-US" sz="4300" spc="-1" strike="noStrike">
                <a:solidFill>
                  <a:srgbClr val="ff0000"/>
                </a:solidFill>
                <a:latin typeface="Century Gothic"/>
              </a:rPr>
              <a:t>X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” is equal to </a:t>
            </a:r>
            <a:r>
              <a:rPr b="0" lang="en-US" sz="4300" spc="-1" strike="noStrike">
                <a:solidFill>
                  <a:srgbClr val="ff0000"/>
                </a:solidFill>
                <a:latin typeface="Century Gothic"/>
              </a:rPr>
              <a:t>360 days</a:t>
            </a:r>
            <a:r>
              <a:rPr b="0" lang="en-US" sz="4300" spc="-1" strike="noStrike">
                <a:solidFill>
                  <a:srgbClr val="00ff00"/>
                </a:solidFill>
                <a:latin typeface="Century Gothic"/>
              </a:rPr>
              <a:t> 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times your       </a:t>
            </a:r>
            <a:r>
              <a:rPr b="0" lang="en-US" sz="4300" spc="-1" strike="noStrike">
                <a:solidFill>
                  <a:srgbClr val="ff0000"/>
                </a:solidFill>
                <a:latin typeface="Century Gothic"/>
              </a:rPr>
              <a:t>gross profit percent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. </a:t>
            </a:r>
            <a:r>
              <a:rPr b="0" lang="en-US" sz="3900" spc="-1" strike="noStrike">
                <a:solidFill>
                  <a:srgbClr val="000000"/>
                </a:solidFill>
                <a:latin typeface="Century Gothic"/>
              </a:rPr>
              <a:t>”</a:t>
            </a:r>
            <a:endParaRPr b="0" lang="en-US" sz="39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Rectangle 1"/>
          <p:cNvGraphicFramePr/>
          <p:nvPr/>
        </p:nvGraphicFramePr>
        <p:xfrm>
          <a:off x="0" y="1050840"/>
          <a:ext cx="7391520" cy="409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Rectangle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0840"/>
                    <a:ext cx="7391520" cy="40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114440" y="403200"/>
            <a:ext cx="434340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Grande"/>
              </a:rPr>
              <a:t>Alan’s “Rule of Thumb”</a:t>
            </a:r>
            <a:endParaRPr b="0" lang="en-US" sz="3200" spc="-1" strike="noStrike">
              <a:solidFill>
                <a:srgbClr val="000000"/>
              </a:solidFill>
              <a:latin typeface="Lucida Grande"/>
            </a:endParaRPr>
          </a:p>
        </p:txBody>
      </p:sp>
    </p:spTree>
  </p:cSld>
  <p:transition spd="slow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83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"/>
          <p:cNvSpPr/>
          <p:nvPr/>
        </p:nvSpPr>
        <p:spPr>
          <a:xfrm>
            <a:off x="0" y="974880"/>
            <a:ext cx="9144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0680" rIns="130680" tIns="65160" bIns="65160" anchor="t">
            <a:noAutofit/>
          </a:bodyPr>
          <a:p>
            <a:pPr>
              <a:lnSpc>
                <a:spcPct val="100000"/>
              </a:lnSpc>
              <a:spcBef>
                <a:spcPts val="176"/>
              </a:spcBef>
              <a:spcAft>
                <a:spcPts val="876"/>
              </a:spcAft>
              <a:tabLst>
                <a:tab algn="l" pos="0"/>
                <a:tab algn="l" pos="814320"/>
                <a:tab algn="l" pos="2120760"/>
                <a:tab algn="l" pos="3429000"/>
                <a:tab algn="l" pos="4734000"/>
                <a:tab algn="l" pos="6040440"/>
                <a:tab algn="l" pos="7346880"/>
                <a:tab algn="l" pos="8653320"/>
                <a:tab algn="l" pos="996156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5376b"/>
                </a:solidFill>
                <a:latin typeface="CenturyGothic"/>
              </a:rPr>
              <a:t>Here are three takeaways from </a:t>
            </a:r>
            <a:r>
              <a:rPr b="1" lang="en-US" sz="1600" spc="-1" strike="noStrike">
                <a:solidFill>
                  <a:srgbClr val="15376b"/>
                </a:solidFill>
                <a:latin typeface="CenturyGothic"/>
              </a:rPr>
              <a:t>The Key to Buying Music Product Inventory</a:t>
            </a:r>
            <a:r>
              <a:rPr b="0" lang="en-US" sz="1400" spc="-1" strike="noStrike">
                <a:solidFill>
                  <a:srgbClr val="15376b"/>
                </a:solidFill>
                <a:latin typeface="CenturyGothic"/>
              </a:rPr>
              <a:t> presented by </a:t>
            </a:r>
            <a:r>
              <a:rPr b="1" lang="en-US" sz="1400" spc="-1" strike="noStrike">
                <a:solidFill>
                  <a:srgbClr val="15376b"/>
                </a:solidFill>
                <a:latin typeface="CenturyGothic"/>
              </a:rPr>
              <a:t>Alan Friedman</a:t>
            </a:r>
            <a:r>
              <a:rPr b="0" lang="en-US" sz="1400" spc="-1" strike="noStrike">
                <a:solidFill>
                  <a:srgbClr val="15376b"/>
                </a:solidFill>
                <a:latin typeface="CenturyGothic"/>
              </a:rPr>
              <a:t>.  Bring these ideas to back to your business and see what results you generat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500"/>
              </a:spcAft>
              <a:tabLst>
                <a:tab algn="l" pos="0"/>
                <a:tab algn="l" pos="814320"/>
                <a:tab algn="l" pos="2120760"/>
                <a:tab algn="l" pos="3429000"/>
                <a:tab algn="l" pos="4734000"/>
                <a:tab algn="l" pos="6040440"/>
                <a:tab algn="l" pos="7346880"/>
                <a:tab algn="l" pos="8653320"/>
                <a:tab algn="l" pos="996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5376b"/>
                </a:solidFill>
                <a:latin typeface="CenturyGothic"/>
              </a:rPr>
              <a:t>Takeaway 1: </a:t>
            </a:r>
            <a:r>
              <a:rPr b="1" lang="en-US" sz="2400" spc="-1" strike="noStrike">
                <a:solidFill>
                  <a:srgbClr val="15376b"/>
                </a:solidFill>
                <a:latin typeface="CenturyGothic"/>
              </a:rPr>
              <a:t>The Four Important Questions: (1) Can I sell it?, (2) Will I make a profit?, (3) How quickly can I sell it?, and (4) How quickly do I have to pay for 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500"/>
              </a:spcAft>
              <a:tabLst>
                <a:tab algn="l" pos="0"/>
                <a:tab algn="l" pos="814320"/>
                <a:tab algn="l" pos="2120760"/>
                <a:tab algn="l" pos="3429000"/>
                <a:tab algn="l" pos="4734000"/>
                <a:tab algn="l" pos="6040440"/>
                <a:tab algn="l" pos="7346880"/>
                <a:tab algn="l" pos="8653320"/>
                <a:tab algn="l" pos="996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5376b"/>
                </a:solidFill>
                <a:latin typeface="CenturyGothic"/>
              </a:rPr>
              <a:t>Takeaway 2:  </a:t>
            </a:r>
            <a:r>
              <a:rPr b="1" lang="en-US" sz="2400" spc="-1" strike="noStrike">
                <a:solidFill>
                  <a:srgbClr val="15376b"/>
                </a:solidFill>
                <a:latin typeface="CenturyGothic"/>
              </a:rPr>
              <a:t>Choose another product or reduce the amount you buy until you get the right answers to the four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spcAft>
                <a:spcPts val="1500"/>
              </a:spcAft>
              <a:tabLst>
                <a:tab algn="l" pos="0"/>
                <a:tab algn="l" pos="814320"/>
                <a:tab algn="l" pos="2120760"/>
                <a:tab algn="l" pos="3429000"/>
                <a:tab algn="l" pos="4734000"/>
                <a:tab algn="l" pos="6040440"/>
                <a:tab algn="l" pos="7346880"/>
                <a:tab algn="l" pos="8653320"/>
                <a:tab algn="l" pos="99615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15376b"/>
                </a:solidFill>
                <a:latin typeface="CenturyGothic"/>
              </a:rPr>
              <a:t>Takeaway 3:  </a:t>
            </a:r>
            <a:r>
              <a:rPr b="1" lang="en-US" sz="2400" spc="-1" strike="noStrike">
                <a:solidFill>
                  <a:srgbClr val="15376b"/>
                </a:solidFill>
                <a:latin typeface="CenturyGothic"/>
              </a:rPr>
              <a:t>Always’ use Alan’s “Rule of Thumb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3103560" y="385920"/>
            <a:ext cx="50292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Top Three Takeaw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971640"/>
            <a:ext cx="906768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720" rIns="81720" tIns="40680" bIns="40680" anchor="t">
            <a:spAutoFit/>
          </a:bodyPr>
          <a:p>
            <a:pPr algn="ctr">
              <a:lnSpc>
                <a:spcPct val="100000"/>
              </a:lnSpc>
              <a:spcBef>
                <a:spcPts val="3226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226"/>
              </a:spcBef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86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514600" y="368280"/>
            <a:ext cx="64008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Free” Consulting Meeting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3032280"/>
            <a:ext cx="838188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ahoma"/>
              </a:rPr>
              <a:t>Contact Jen </a:t>
            </a:r>
            <a:r>
              <a:rPr b="0" lang="en-US" sz="3200" spc="-1" strike="noStrike">
                <a:solidFill>
                  <a:srgbClr val="790015"/>
                </a:solidFill>
                <a:latin typeface="Tahoma"/>
              </a:rPr>
              <a:t>outside the Idea Center ent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1d58"/>
                </a:solidFill>
                <a:latin typeface="Tahoma"/>
              </a:rPr>
              <a:t>after this session to set up a meeting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286000" y="1127160"/>
            <a:ext cx="4724280" cy="1797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f1e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467480" cy="5148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200400" y="0"/>
            <a:ext cx="594360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00"/>
                </a:solidFill>
                <a:latin typeface="Brush Script MT"/>
              </a:rPr>
              <a:t>Enjoy the Show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417920"/>
            <a:ext cx="502920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00"/>
                </a:solidFill>
                <a:latin typeface="Comic Sans MS"/>
              </a:rPr>
              <a:t>Catch Alan playing with PRINTZ Saturday Night at the Hilton Lobby!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5120" y="36468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2200" spc="-1" strike="noStrike">
                <a:solidFill>
                  <a:srgbClr val="000066"/>
                </a:solidFill>
                <a:latin typeface="Comic Sans MS"/>
              </a:rPr>
              <a:t>When buying inventory, which of these questions are “</a:t>
            </a:r>
            <a:r>
              <a:rPr b="1" i="1" lang="en-US" sz="2200" spc="-1" strike="noStrike" u="sng">
                <a:solidFill>
                  <a:srgbClr val="000066"/>
                </a:solidFill>
                <a:uFillTx/>
                <a:latin typeface="Comic Sans MS"/>
              </a:rPr>
              <a:t>most”</a:t>
            </a:r>
            <a:r>
              <a:rPr b="1" i="1" lang="en-US" sz="2200" spc="-1" strike="noStrike">
                <a:solidFill>
                  <a:srgbClr val="000066"/>
                </a:solidFill>
                <a:latin typeface="Comic Sans MS"/>
              </a:rPr>
              <a:t> important to ask?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52280" y="1087200"/>
            <a:ext cx="8839440" cy="40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66ccff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entury Gothic"/>
              </a:rPr>
              <a:t>Can I lower my cost for a larger order?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66ccff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entury Gothic"/>
              </a:rPr>
              <a:t>Can I get a discount for early payment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66ccff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entury Gothic"/>
              </a:rPr>
              <a:t>Can I reorder this product if I run out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66ccff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entury Gothic"/>
              </a:rPr>
              <a:t>Is this a product my competition sells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66ccff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entury Gothic"/>
              </a:rPr>
              <a:t>Will I have greater leverage with this supplier if I buy a lot of their product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66ccff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entury Gothic"/>
              </a:rPr>
              <a:t>Is this a “cool” product and will I gain customer credibility for selling it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66ccff"/>
              </a:buClr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Century Gothic"/>
              </a:rPr>
              <a:t>Can I get some vendor rebates, spiffs, trips,                      prizes, awards or cool T-shirts?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99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09320" y="364680"/>
            <a:ext cx="6629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600" spc="-1" strike="noStrike">
                <a:solidFill>
                  <a:srgbClr val="000000"/>
                </a:solidFill>
                <a:latin typeface="Comic Sans MS"/>
              </a:rPr>
              <a:t>None of them !!!</a:t>
            </a:r>
            <a:endParaRPr b="0" lang="en-US" sz="5600" spc="-1" strike="noStrike">
              <a:solidFill>
                <a:srgbClr val="000000"/>
              </a:solidFill>
              <a:latin typeface="Lucida Grande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4572000" cy="39448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572000" y="1144440"/>
            <a:ext cx="4465800" cy="2421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29200" y="1432080"/>
            <a:ext cx="3733920" cy="12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i="1" lang="en-US" sz="36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1" i="1" lang="en-US" sz="3600" spc="-1" strike="noStrike">
                <a:solidFill>
                  <a:srgbClr val="292929"/>
                </a:solidFill>
                <a:latin typeface="Arial"/>
              </a:rPr>
              <a:t>Who ordered this junk ?!?!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5640" y="36468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Lucida Grande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What</a:t>
            </a:r>
            <a:r>
              <a:rPr b="1" lang="en-US" sz="2100" spc="-1" strike="noStrike">
                <a:solidFill>
                  <a:srgbClr val="000000"/>
                </a:solidFill>
                <a:latin typeface="Lucida Grande"/>
              </a:rPr>
              <a:t>” and “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How Many</a:t>
            </a:r>
            <a:r>
              <a:rPr b="1" lang="en-US" sz="2100" spc="-1" strike="noStrike">
                <a:solidFill>
                  <a:srgbClr val="000000"/>
                </a:solidFill>
                <a:latin typeface="Lucida Grande"/>
              </a:rPr>
              <a:t>” to buy depends </a:t>
            </a:r>
            <a:r>
              <a:rPr b="0" lang="en-US" sz="2100" spc="-1" strike="noStrike">
                <a:solidFill>
                  <a:srgbClr val="000000"/>
                </a:solidFill>
                <a:latin typeface="Lucida Grande"/>
              </a:rPr>
              <a:t>ONLY</a:t>
            </a:r>
            <a:r>
              <a:rPr b="1" lang="en-US" sz="2100" spc="-1" strike="noStrike">
                <a:solidFill>
                  <a:srgbClr val="000000"/>
                </a:solidFill>
                <a:latin typeface="Lucida Grande"/>
              </a:rPr>
              <a:t>    on your answers to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Lucida Grande"/>
              </a:rPr>
              <a:t>these</a:t>
            </a:r>
            <a:r>
              <a:rPr b="1" lang="en-US" sz="2100" spc="-1" strike="noStrike">
                <a:solidFill>
                  <a:srgbClr val="000000"/>
                </a:solidFill>
                <a:latin typeface="Lucida Grande"/>
              </a:rPr>
              <a:t> questions:</a:t>
            </a:r>
            <a:endParaRPr b="0" lang="en-US" sz="21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10480" cy="371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591120" indent="-591120">
              <a:spcBef>
                <a:spcPts val="115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300" spc="-1" strike="noStrike">
                <a:solidFill>
                  <a:srgbClr val="3399ff"/>
                </a:solidFill>
                <a:latin typeface="Century Gothic"/>
              </a:rPr>
              <a:t>Can I </a:t>
            </a:r>
            <a:r>
              <a:rPr b="1" lang="en-US" sz="4300" spc="-1" strike="noStrike">
                <a:solidFill>
                  <a:srgbClr val="000066"/>
                </a:solidFill>
                <a:latin typeface="Century Gothic"/>
              </a:rPr>
              <a:t>sell</a:t>
            </a:r>
            <a:r>
              <a:rPr b="1" lang="en-US" sz="4300" spc="-1" strike="noStrike">
                <a:solidFill>
                  <a:srgbClr val="3399ff"/>
                </a:solidFill>
                <a:latin typeface="Century Gothic"/>
              </a:rPr>
              <a:t> this product ?</a:t>
            </a: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  <a:p>
            <a:pPr marL="591120" indent="-591120">
              <a:spcBef>
                <a:spcPts val="115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300" spc="-1" strike="noStrike">
                <a:solidFill>
                  <a:srgbClr val="3399ff"/>
                </a:solidFill>
                <a:latin typeface="Century Gothic"/>
              </a:rPr>
              <a:t>Will I make a </a:t>
            </a:r>
            <a:r>
              <a:rPr b="1" lang="en-US" sz="4300" spc="-1" strike="noStrike">
                <a:solidFill>
                  <a:srgbClr val="000066"/>
                </a:solidFill>
                <a:latin typeface="Century Gothic"/>
              </a:rPr>
              <a:t>profit</a:t>
            </a:r>
            <a:r>
              <a:rPr b="1" lang="en-US" sz="4300" spc="-1" strike="noStrike">
                <a:solidFill>
                  <a:srgbClr val="3399ff"/>
                </a:solidFill>
                <a:latin typeface="Century Gothic"/>
              </a:rPr>
              <a:t> ? </a:t>
            </a: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  <a:p>
            <a:pPr marL="591120" indent="-591120">
              <a:spcBef>
                <a:spcPts val="115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300" spc="-1" strike="noStrike">
                <a:solidFill>
                  <a:srgbClr val="3399ff"/>
                </a:solidFill>
                <a:latin typeface="Century Gothic"/>
              </a:rPr>
              <a:t>How </a:t>
            </a:r>
            <a:r>
              <a:rPr b="1" lang="en-US" sz="4300" spc="-1" strike="noStrike">
                <a:solidFill>
                  <a:srgbClr val="000066"/>
                </a:solidFill>
                <a:latin typeface="Century Gothic"/>
              </a:rPr>
              <a:t>quick</a:t>
            </a:r>
            <a:r>
              <a:rPr b="1" lang="en-US" sz="4300" spc="-1" strike="noStrike">
                <a:solidFill>
                  <a:srgbClr val="3399ff"/>
                </a:solidFill>
                <a:latin typeface="Century Gothic"/>
              </a:rPr>
              <a:t> can I sell it ?</a:t>
            </a: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  <a:p>
            <a:pPr marL="591120" indent="-591120">
              <a:spcBef>
                <a:spcPts val="1151"/>
              </a:spcBef>
              <a:buClr>
                <a:srgbClr val="000066"/>
              </a:buClr>
              <a:buFont typeface="Century Gothic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4300" spc="-1" strike="noStrike">
                <a:solidFill>
                  <a:srgbClr val="3399ff"/>
                </a:solidFill>
                <a:latin typeface="Century Gothic"/>
              </a:rPr>
              <a:t>How fast will I have to </a:t>
            </a:r>
            <a:r>
              <a:rPr b="1" lang="en-US" sz="4300" spc="-1" strike="noStrike">
                <a:solidFill>
                  <a:srgbClr val="000066"/>
                </a:solidFill>
                <a:latin typeface="Century Gothic"/>
              </a:rPr>
              <a:t>pay</a:t>
            </a:r>
            <a:r>
              <a:rPr b="1" lang="en-US" sz="4300" spc="-1" strike="noStrike">
                <a:solidFill>
                  <a:srgbClr val="3399ff"/>
                </a:solidFill>
                <a:latin typeface="Century Gothic"/>
              </a:rPr>
              <a:t> my vendor for it ?</a:t>
            </a: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hecke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95480" y="288720"/>
            <a:ext cx="59436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Lucida Grande"/>
              </a:rPr>
              <a:t>(1)  Can I Sell This Product?</a:t>
            </a:r>
            <a:endParaRPr b="0" lang="en-US" sz="3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972720"/>
            <a:ext cx="9144000" cy="4003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1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entury Gothic"/>
              </a:rPr>
              <a:t>Is this product really marketable, useable and/or in demand ?</a:t>
            </a:r>
            <a:endParaRPr b="0" lang="en-US" sz="37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entury Gothic"/>
              </a:rPr>
              <a:t>Will “your” customers want to buy this product? </a:t>
            </a:r>
            <a:endParaRPr b="0" lang="en-US" sz="37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11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entury Gothic"/>
              </a:rPr>
              <a:t>Is your sales rep having a slow month and looking for a sucker?</a:t>
            </a:r>
            <a:endParaRPr b="0" lang="en-US" sz="37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over dir="lu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90560" y="441000"/>
            <a:ext cx="6172200" cy="57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Lucida Grande"/>
              </a:rPr>
              <a:t>(2) Will I make a Profit?</a:t>
            </a:r>
            <a:r>
              <a:rPr b="1" lang="en-US" sz="35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203120"/>
            <a:ext cx="8382240" cy="281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Selling Price        $ 1,000    100%</a:t>
            </a: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Cost </a:t>
            </a:r>
            <a:r>
              <a:rPr b="0" lang="en-US" sz="3400" spc="-1" strike="noStrike">
                <a:solidFill>
                  <a:srgbClr val="000000"/>
                </a:solidFill>
                <a:latin typeface="Century Gothic"/>
              </a:rPr>
              <a:t>(incl. freight)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  (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Century Gothic"/>
              </a:rPr>
              <a:t>     600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)    </a:t>
            </a:r>
            <a:r>
              <a:rPr b="0" lang="en-US" sz="4300" spc="-1" strike="noStrike" u="sng">
                <a:solidFill>
                  <a:srgbClr val="000000"/>
                </a:solidFill>
                <a:uFillTx/>
                <a:latin typeface="Century Gothic"/>
              </a:rPr>
              <a:t>60%</a:t>
            </a: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entury Gothic"/>
              </a:rPr>
              <a:t>Gross Profit</a:t>
            </a:r>
            <a:r>
              <a:rPr b="1" lang="en-US" sz="4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43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entury Gothic"/>
              </a:rPr>
              <a:t>$   400</a:t>
            </a:r>
            <a:r>
              <a:rPr b="1" lang="en-US" sz="43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en-US" sz="4300" spc="-1" strike="noStrike" u="sng">
                <a:solidFill>
                  <a:srgbClr val="000000"/>
                </a:solidFill>
                <a:uFillTx/>
                <a:latin typeface="Century Gothic"/>
              </a:rPr>
              <a:t>40%</a:t>
            </a: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  <a:p>
            <a:pPr marL="284400" indent="0">
              <a:lnSpc>
                <a:spcPct val="90000"/>
              </a:lnSpc>
              <a:spcBef>
                <a:spcPts val="11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43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3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5640" y="365040"/>
            <a:ext cx="65530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Lucida Grande"/>
              </a:rPr>
              <a:t>(3) How Quick Can I Sell It?</a:t>
            </a:r>
            <a:endParaRPr b="0" lang="en-US" sz="36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952200"/>
            <a:ext cx="9144000" cy="4289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e answer: 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as soon as possible!!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 Think in terms of 1-120 days; think twice about buying goods that will take longer than 4 to 6 months to sell.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Remember the dozen or so costs 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(the product cost, freight-in, insurance, rent, storage, inter-store transportation, setup, accounting, data entry &amp; tracking, flooring &amp; financing, property tax, breakage, security, shrink, physical inv., +1 more) 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that accumulate from aging inventory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400" spc="-1" strike="noStrike">
                <a:solidFill>
                  <a:srgbClr val="ff0000"/>
                </a:solidFill>
                <a:latin typeface="Century Gothic"/>
              </a:rPr>
              <a:t>$100 cost = $130 one year later!</a:t>
            </a:r>
            <a:endParaRPr b="0" lang="en-US" sz="3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over dir="l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819160" y="403200"/>
            <a:ext cx="6095880" cy="5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Lucida Grande"/>
              </a:rPr>
              <a:t>(4) Vendor Payment Terms?</a:t>
            </a:r>
            <a:endParaRPr b="0" lang="en-US" sz="3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067680" cy="387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You must be able to sell most of the product  (if not all) “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before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” your vendor’s payment due date!!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1151"/>
              </a:spcBef>
              <a:buClr>
                <a:srgbClr val="3399ff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Otherwise, you’ll have cash flow shortages, requiring you to either (a)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borrow or invest more money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, (b)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string your vendors out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, or      (c) say </a:t>
            </a:r>
            <a:r>
              <a:rPr b="1" lang="en-US" sz="3200" spc="-1" strike="noStrike">
                <a:solidFill>
                  <a:srgbClr val="ff0000"/>
                </a:solidFill>
                <a:latin typeface="Century Gothic"/>
              </a:rPr>
              <a:t>“good-bye”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cover dir="r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33720" y="36468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500" spc="-1" strike="noStrike">
                <a:solidFill>
                  <a:srgbClr val="000066"/>
                </a:solidFill>
                <a:latin typeface="Lucida Grande"/>
              </a:rPr>
              <a:t>The Objective…</a:t>
            </a:r>
            <a:endParaRPr b="0" lang="en-US" sz="4500" spc="-1" strike="noStrike">
              <a:solidFill>
                <a:srgbClr val="000000"/>
              </a:solidFill>
              <a:latin typeface="Lucida Gran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74880"/>
            <a:ext cx="8763120" cy="38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 algn="ctr">
              <a:spcBef>
                <a:spcPts val="4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Century Gothic"/>
              </a:rPr>
              <a:t>“ </a:t>
            </a:r>
            <a:r>
              <a:rPr b="1" lang="en-US" sz="5400" spc="-1" strike="noStrike">
                <a:solidFill>
                  <a:srgbClr val="000066"/>
                </a:solidFill>
                <a:latin typeface="Century Gothic"/>
              </a:rPr>
              <a:t>To sell it, at the       highest gross profit, in the least amount of time,  and never pay for it. ”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 spd="med">
    <p:zoom dir="ou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7:16:40Z</dcterms:created>
  <dc:creator>Stuart Robertson</dc:creator>
  <dc:description/>
  <dc:language>en-US</dc:language>
  <cp:lastModifiedBy>Staff</cp:lastModifiedBy>
  <dcterms:modified xsi:type="dcterms:W3CDTF">2010-12-01T15:13:29Z</dcterms:modified>
  <cp:revision>41</cp:revision>
  <dc:subject/>
  <dc:title>PowerPoint Presentation</dc:title>
</cp:coreProperties>
</file>